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5C7F-0876-486B-988C-93DB3352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3107-4FF5-4280-BCA9-5D15476C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EEF51-EFDC-45F2-876C-777D9203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4BC6C-11EC-45CF-BB5B-6E95810B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A3ABB-CD65-4C14-87E2-16D422B9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317BE-D92E-4A6E-BB6A-F75FC395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E850E-A48B-4A7E-8342-A0C354AC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40DCD-3AB1-4950-A098-3E7F4BFD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09DF3-C131-430F-A83C-BA030368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FA2A2-5447-4B56-867B-41C9FD25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DAF2C-AA5C-477D-BB6D-3902837E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1A9D3-04F5-44C7-A3F2-4A403653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515C-FF36-493B-A755-5115C703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4E918-CBC4-4242-A008-9AA1595B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87B0A-614E-4E1D-8169-2B7B475D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52AB3-89F9-4DA3-9361-49CABF65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0AA94-AA2D-4E51-8BED-2A9721D0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72E97-5B86-4BB8-8705-7924B312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35FC1-2579-4DD5-B222-D124FEF9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37652-966D-4589-9D61-E3AF1E99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9AB89-DBC0-4ACD-8ECC-D298C11D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DEC34-474C-4A09-8C98-0935796D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12EB0-9BD3-437F-A83B-C06642F8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3ECA-6E51-45AA-90F2-E38CFB24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B0253-F48E-40A6-8BE4-38A1FA09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D1FB3-85DC-458F-86CD-FE23569C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5CBE2-FF3E-409A-A4EF-E9FA81EA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E5453-3DB1-45FF-9733-E28D0567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F0D03-D91B-4788-ADE1-8EDEC4D0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E0CF3-3530-4CEE-ADF6-1C12B081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2C525-3D99-483D-99C5-8277F07F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25C29-264F-48D2-A8F0-E435A72A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5C7F1-A1C1-4FC0-B780-38D805D9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B7917-2171-4F11-9B54-39E7393B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26C6-2C87-4885-B1F1-AFDC6FA3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1CED5-D487-463E-ABCA-D7566C32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DD63B-8575-4AE1-9C29-F7B1BD04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23BD4-33A8-4283-B23A-8BC92731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33342-8536-403D-BCFD-C389D725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E43F4-5902-4501-AF8D-3267F4F6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C3ACAA-8552-46EC-80E2-0DFFB309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8D0FE-7E35-4538-AFE7-02D5876B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B6F2A-DD6C-4A53-8B5C-9EEDEE93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6CB0B-DD7C-47EF-AEE2-9766B061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D4FB8-740B-4EFD-8BFB-D6F554B2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639E-2B54-427B-996F-764F145C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DB6214-15B6-432A-BE95-A0420E74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E9727-D7E5-4B6A-B318-949DBAB3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82515-FAC9-49DF-8689-D8640AC4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132D1-33C0-4111-BA08-42C587BE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E6D05-8C87-475D-A68A-2DA58C62B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FF25CE-3B49-46CD-ABE6-C1044046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BC9E38-8E13-4BC6-8A36-798D06B3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A1D020-B95C-4452-B041-302CDD92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6E083F-669E-4846-A01C-F48D2966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490654-9AEB-4D05-AB6C-5D5A655C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34C6-7EC5-4E90-9E0E-6213CE4E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99AB52-5F90-4729-815A-35532CE8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DE18AA-1366-4587-8477-8AD13D6E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9C9407-6D3E-4A11-9FA7-E51BB061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5A27B7-C217-48DD-B65C-3CC0AEB6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6786A1-72B4-40D9-80E5-F3CB1C8F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805317-2555-4764-BEE5-C1B041CC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786588-316B-4A29-8109-DE853F98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A7448B-AF3C-40D4-9856-10E03F75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F30655-7F92-4531-A0AB-D8809F5E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2D968E-3585-46A9-808B-3C110444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BAB7-09CD-4A80-AFDF-04DD89FB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1CFB3B-BEB8-4451-959C-BDFBDDED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1A2FC6-71C8-4BF9-8661-004C8A36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096F16-5BCE-4A23-B587-3F437144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84898E-0D8D-4AB7-AF00-3B36E7B2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3AFB42-C8A0-4469-9950-6D7409DA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CD0D14-3537-474B-8FAF-9F5DA957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6E02A9-2F37-4AFA-99CA-70EE5FF6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9BBC39-53F5-445E-B5FF-058CFC327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6AD810-EC90-4957-BB43-7A57FAEE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F8B776-B059-4F64-A3C4-08D0A4DF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A52F-FF10-4538-9A81-74E3CB3D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5B03C2-47D8-4D21-8202-D80EF802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A24364-9038-44F3-9E42-5656CFA1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8E4256-883E-4C89-A33B-7E71E416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811B9B-78DE-49DC-AA20-EFD9E2CC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A2C06B-98D8-41BD-AAAD-63C9849F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70499A-37E3-46D3-9D16-EF533489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3816D2-79A7-4308-8A20-E33F2585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F471F2-DB4A-4209-A838-6AF2A8ED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A43432-9CEE-4247-8735-76F609A7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D4B390-5AFF-4B02-95B9-A9FEA82D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6363-9DCB-4A38-A34C-AFEA56B2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691158-0D91-4D62-8070-E82D867A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74018D-3BD4-4ABF-8486-76A8164B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20B75E-9779-4B21-9D10-0A2DFF77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0CD8E7-F04E-48E5-B2AD-EB489480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A21515-15AC-42B8-9CF3-C30BDB1F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EB2E3E-2764-43F4-A9AA-AA00004C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568241-FA7E-498A-90F5-ED672E6A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464661-8255-48ED-88BE-B20FC458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F7E1A9-98AC-448D-B057-45598070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268ACC-E10A-420B-9704-96447F11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11B3-5B6D-4AF8-AF0C-B38B20C3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D45669-65FE-44ED-BD80-26467F6D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210981-ED0A-4364-8239-FF7C260B8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93F13C-CD0C-4E77-B403-EDECF690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1B806D-226E-4FED-94AC-39666E57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CB0568-9933-437A-AB84-900DFE18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07DCA2-16F7-4BCC-BA74-6D077AEC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A21907-C5A1-4B01-81F7-EC4B8081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89C7F3-F27A-4616-A3F6-FFA291D4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1B9A96-F8D6-40C0-AAFC-24523B09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E82E82-6F01-4670-AA85-5CCB0F4C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A70A-9DFA-4B66-8351-1031DB88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C66C-808A-455F-9F86-C17C2495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F4EE81-A1A5-4508-859E-90CE98B3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0451D5-81E2-4FE0-9F57-C6602B30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B97E0E-73B0-4CAD-BD48-B118A7CE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8BFDF8-462C-4593-AF01-413C5F54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767737-FA82-4AC1-99D9-9D14D6A5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BC548E-F3F0-4B0B-9659-3C59478C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F62CDD-548F-435F-AB54-EBD7F25E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70EA37-090D-40D5-9459-0FD39D4F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112FF7-A2A0-447E-A8CA-509EC526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D538FF-7EB4-4CE1-AB46-ABD7A680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0BE4-AB8A-494B-92CE-950C181E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29D678-8DB8-462C-A423-481EA34F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A862E2-DC73-4E71-B0B3-DCE619D2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E1C926-1B19-46F8-A70B-5D6DA8FC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D9B95F-040F-4546-9093-58373F62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146AE9-BF5B-4DFE-BB99-319079B3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E438FD-6CC8-4CCF-A563-B0E26FCAE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D4C4FC-58F3-4134-87CD-C888F482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74457F-8EF3-4270-BD73-D6437C34F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D45F28-8660-436D-8E20-6D14C94D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A676D1-4630-42CB-9AC2-F79BD149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8934-140C-41E2-8DE9-EC9A52FB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2BD89B-81CB-48DA-A353-5DFD43DE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D6BF32-7C5B-4C01-A0DF-A719C879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F1AA71-F7BC-4ADE-AD48-22C26E85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580C62-0BC1-4D33-AEAE-10CC7B2E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12F601-DC5F-46F0-8C4A-F19EF5EE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4E32D2-1F9E-4160-93AD-83194AE0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B8A241-498E-4901-9DF0-0BCD00CC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612248-FC74-4BD0-ABC4-D116928E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FA924A-39A6-4989-A200-31835862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D8AF3B-A3B3-4063-B94D-FB813ACA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A950-8315-44AF-A476-0A0EAC65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A0F3DC-7F66-4C2D-A4F9-BD3B8308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E6EB82-1F44-431A-99AD-4C6B8173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2DC181-9D7E-4E7A-9B05-4694B248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9E1C06-8CFE-4A8E-9B2C-16598F32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A4993C-ABB9-435D-8140-B525F87F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E9BCB6-E4FA-436A-97BF-3CCBD0B5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59EF91-57E3-4CE7-A0AF-0228E3E4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DC0278-E86A-4086-AF99-24FBBD2D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CD6116-922C-4197-9BFF-F67D575C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081E4D-CF5F-4C6A-A716-D574EF2C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5183-D02A-4D3E-9700-1C5ADF70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86A9FE-2AB6-43E9-BD72-109A10D2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9150F9-CA1B-4622-ADFF-FAD86BF1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89C8A2-9628-4851-BA8C-33997106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A40B4F-193F-4D85-BD96-6B9935A1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B97C61-7900-4CB1-A762-6CFFAE17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B68F4F-1822-4D34-958D-DD790C94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00442C-8D1D-4A85-9040-75D969A6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777387-E7E0-41FD-8835-1C8B14B2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14B5A2-DD72-4545-95B3-AE8516EE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5F7B52-F784-4AB7-91DA-A48FEA43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EE377-B3C2-45B8-A673-809A73E3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81C804-264E-4A02-84DF-4ACBD05D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A20B59-8E03-4A65-9FE9-452C2B85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177E0A-B8B5-4B26-B949-CD9C0D9C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F0422-B138-4B81-AB5F-D89F4AF6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04525-74C8-49C8-B8E6-BE244021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1F670-0864-4FEC-AD24-5CB53089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BC3E9-CBD8-453B-AA43-CEDE9CC8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863F-7C7C-463F-8B9C-72CF9AEF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D79C5-7CBA-4F44-9712-AA0671A8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3296D-0FD9-481C-94B5-67F4B8B5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998E1-9C42-46BF-9611-FA5331C0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62FD4-8A35-4482-AC7E-688C1CF2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6FA8C-0BD5-4286-87E6-9806FBD5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70DC6-1434-4A61-9111-2ABFD53A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80D66-7388-4FFA-A1F5-CC0D1DA8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45D02-62D4-4666-A525-61ED8D34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7E303-3478-45E7-93A6-8786B5C1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A247F-FFCF-484E-B818-0C722AC1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CDEB-A847-4817-8965-3E2FC1A8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5E614-E718-4883-8DDA-C6D18595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76F34-5ED6-44DF-B2C5-A0CA9DC5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BB96E-47A3-4741-BF7E-187FF943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80D97-E9C2-485C-960A-D8F820EA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B8B2D-8C70-4E69-81E3-84690BE7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A9BD6-3E84-4A87-8082-93DAACEB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BD96C-11A5-4658-AB4E-66EB55E2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AEE0A-42DC-4DD4-BEC6-ADCD5AB4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8C896-1337-4534-8E09-A3F9A525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CBDF6-585B-4C16-8FFC-4D1726E0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907F-E048-4163-B3F4-F15F756E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05465-950D-4ADD-8E52-D204B69B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D495E-FF86-4A10-898A-71518DB8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859AB-266A-4CDC-8638-80F80DA3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8D585-9E5E-4D87-94A0-7411D985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31BAE-BBB3-4C2A-A839-66D1D0DD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487F3-64F8-41DC-99D2-9BD1FA5D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147FE-F4F2-45BB-8C71-0303EB4E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85C28-0434-4358-BFE3-F5442AC5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7E6CD-2DA4-4FDA-B76D-22A8E822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29BCC-A417-4BF4-954B-DE70AAC2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1145-F078-4C5B-A45E-0C462481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58F5E-F795-4868-B3E7-778A24EC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9AA31-2429-4705-8C9B-6A5F1E46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333F8-175D-4FBB-A06E-0B8779E3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FAADC-F227-4396-A99C-72FE7FCA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FB71F-DF25-46C5-8AB2-1551C807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4AD34-4C52-4C2D-98AA-D2119670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CB999-A4A9-48DE-97BF-70F0C57F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3F57D-E972-4262-92C8-257A13A4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677DA-C9FC-41C8-BA8B-1EB85C07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E51BB-E327-48E5-826D-71F0B2F4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42B3-49D0-4D30-B9A0-BF56822F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B8966-ACC4-41DF-961A-FE8BD37B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7D763-6586-4A88-857B-34E5E866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9B4BF-EC0E-4032-84EF-A74F1563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C5224-4642-41C2-A700-1D3C97EA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BF0E1-CE39-4FEA-8FF2-433D6D0A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64CC9-B57C-4603-832D-0E431572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65130-EAAE-4817-8453-10D330EC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F5E3B-C7A1-4426-B502-725241B5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69B53-E807-4968-8744-0E373C11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3079A-3116-4EA4-94E2-09020177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4CF6-2AB6-45F3-AD6A-B3E27587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45AC4-B9F5-4F93-AA85-59A55220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93319-9CD7-4BB5-B9FC-B0580224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C60C2-5461-466B-9960-5367EDB0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A797B-F345-47FD-966A-C516B95D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096DF-8975-4B26-9839-A032103C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C8946-2B2B-41B5-AD4C-358C4415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92DE0-48C4-4551-B54D-04DE9180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3D2AE-99C5-4ADF-A745-1A4BB6BC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EFAFC-24A5-4BD6-8571-3937584D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B713B-ACB4-4F63-891D-F1C53E79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BD09-AFCE-45E5-B499-4251BC7A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DC0BA-C678-4D08-8FD6-576A19BF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3FDB4-4C37-47F8-B311-C98FA306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25876-D742-4750-BB82-55B9093C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32BA7-63EE-4327-8F7C-643E52F4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2CEAB-F2C0-4D86-889E-254C136C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273D2-BB6A-478C-8985-3B48465D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5E192-18FF-48CF-802B-65F2CDC4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AAF09-081D-4BA8-89AF-4955C173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6C2E6-62B9-49DD-8D60-1C45DB41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B2F31-607A-414F-9E1A-12F68A27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D4B7-D2D9-4C1F-AB91-942753889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8E05-6805-49B6-A2FE-C7A9C5204A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632C-C169-4D1D-8AE3-7734512891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A401-FBEC-460A-99D8-9A44E95FB6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8CB4-E2D6-476B-8387-E32BFCD4D2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CAEA-D551-42CC-A470-1E98F7709A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9E4B-DEB7-4B99-87E3-AB95A0CBED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E29D-DA8F-4B77-9577-5FB9599B65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B104-F80F-4153-84C2-F2AED43266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5ED4-BB11-46D1-BF5D-BB2436DA07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5F48-A343-4FAB-8ED1-E601DF1EA0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534C-C942-4B2D-83B0-73F2613FC7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BC20-11B0-4F3E-B113-624F3A5088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2654-0223-4183-82E2-BC2337EE84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DD55-4277-4C9F-933A-4A7116A4F7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690E-F81F-483B-AA20-2428DE8986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C65C-7AEE-42C2-9DF5-A31A8A0F16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7AB7-DBE7-4103-8034-6BF5C7056B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6342-5F3C-4FF5-9AF1-64627BC813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C4A1-46E4-40E4-9AB4-47B12A16FA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1088-6B47-444F-8676-045631474D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DB27-40D9-46CB-858C-74FC7F4759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FCE6-25CB-42B6-9E25-1B408B8599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EFF7-FB97-41B2-926E-A9C37AB309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5B0C-2219-4BA1-9357-A4EE05C345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F229-75D7-4C47-9A1C-A3ECA7BDD7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76E8-6BCC-49F3-8ED1-9CCF2EB22C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6584-065A-4F95-BE40-C0B0797AC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FC18-24BF-4796-BCF2-13D7D77F1F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124A-B847-4D0E-8F11-3C3099607A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D1A4-38A0-46D6-B11D-7A925F9933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8D51-B27A-4649-BE54-37BD003769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EF51-8A37-4D96-B1D6-87AFE47EB0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9B4D-6314-41C5-920C-2E47B37A7D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327F-B8B7-41CF-BFB1-E0D4F7D316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A803-812B-486D-A328-53AA8F2D7B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45E8-8466-4C98-892A-47350F0559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201B-751A-4BE3-93E9-9C4CBC09FD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B0D0-0485-4B7B-B164-5A6AC7C534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8885-B07C-4B02-A61F-A6CC2F96DC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147600" y="3110040"/>
            <a:ext cx="884880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1" descr=""/>
          <p:cNvPicPr/>
          <p:nvPr/>
        </p:nvPicPr>
        <p:blipFill>
          <a:blip r:embed="rId1"/>
          <a:stretch/>
        </p:blipFill>
        <p:spPr>
          <a:xfrm>
            <a:off x="519120" y="1033560"/>
            <a:ext cx="8105760" cy="4790880"/>
          </a:xfrm>
          <a:prstGeom prst="rect">
            <a:avLst/>
          </a:prstGeom>
          <a:ln w="0">
            <a:noFill/>
          </a:ln>
        </p:spPr>
      </p:pic>
      <p:sp>
        <p:nvSpPr>
          <p:cNvPr id="1053" name="矩形 2"/>
          <p:cNvSpPr/>
          <p:nvPr/>
        </p:nvSpPr>
        <p:spPr>
          <a:xfrm>
            <a:off x="1214280" y="1571760"/>
            <a:ext cx="5857920" cy="349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3"/>
          <p:cNvSpPr/>
          <p:nvPr/>
        </p:nvSpPr>
        <p:spPr>
          <a:xfrm>
            <a:off x="2643120" y="5214960"/>
            <a:ext cx="2786040" cy="293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286840" cy="607212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1000080" y="250020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928800" y="44290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1" descr=""/>
          <p:cNvPicPr/>
          <p:nvPr/>
        </p:nvPicPr>
        <p:blipFill>
          <a:blip r:embed="rId1"/>
          <a:stretch/>
        </p:blipFill>
        <p:spPr>
          <a:xfrm>
            <a:off x="461880" y="1395360"/>
            <a:ext cx="8220240" cy="4067280"/>
          </a:xfrm>
          <a:prstGeom prst="rect">
            <a:avLst/>
          </a:prstGeom>
          <a:ln w="0">
            <a:noFill/>
          </a:ln>
        </p:spPr>
      </p:pic>
      <p:sp>
        <p:nvSpPr>
          <p:cNvPr id="1027" name="矩形 2"/>
          <p:cNvSpPr/>
          <p:nvPr/>
        </p:nvSpPr>
        <p:spPr>
          <a:xfrm>
            <a:off x="857160" y="15001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3"/>
          <p:cNvSpPr/>
          <p:nvPr/>
        </p:nvSpPr>
        <p:spPr>
          <a:xfrm>
            <a:off x="928800" y="350028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1" descr=""/>
          <p:cNvPicPr/>
          <p:nvPr/>
        </p:nvPicPr>
        <p:blipFill>
          <a:blip r:embed="rId1"/>
          <a:stretch/>
        </p:blipFill>
        <p:spPr>
          <a:xfrm>
            <a:off x="457200" y="890640"/>
            <a:ext cx="8229600" cy="5076720"/>
          </a:xfrm>
          <a:prstGeom prst="rect">
            <a:avLst/>
          </a:prstGeom>
          <a:ln w="0">
            <a:noFill/>
          </a:ln>
        </p:spPr>
      </p:pic>
      <p:sp>
        <p:nvSpPr>
          <p:cNvPr id="1030" name="矩形 2"/>
          <p:cNvSpPr/>
          <p:nvPr/>
        </p:nvSpPr>
        <p:spPr>
          <a:xfrm>
            <a:off x="857160" y="10000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3"/>
          <p:cNvSpPr/>
          <p:nvPr/>
        </p:nvSpPr>
        <p:spPr>
          <a:xfrm>
            <a:off x="928800" y="300024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1" descr=""/>
          <p:cNvPicPr/>
          <p:nvPr/>
        </p:nvPicPr>
        <p:blipFill>
          <a:blip r:embed="rId1"/>
          <a:stretch/>
        </p:blipFill>
        <p:spPr>
          <a:xfrm>
            <a:off x="466560" y="2371680"/>
            <a:ext cx="8210880" cy="2114640"/>
          </a:xfrm>
          <a:prstGeom prst="rect">
            <a:avLst/>
          </a:prstGeom>
          <a:ln w="0">
            <a:noFill/>
          </a:ln>
        </p:spPr>
      </p:pic>
      <p:sp>
        <p:nvSpPr>
          <p:cNvPr id="1033" name="矩形 2"/>
          <p:cNvSpPr/>
          <p:nvPr/>
        </p:nvSpPr>
        <p:spPr>
          <a:xfrm>
            <a:off x="1000080" y="250020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1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8162640" cy="49816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2" descr=""/>
          <p:cNvPicPr/>
          <p:nvPr/>
        </p:nvPicPr>
        <p:blipFill>
          <a:blip r:embed="rId2"/>
          <a:stretch/>
        </p:blipFill>
        <p:spPr>
          <a:xfrm>
            <a:off x="571680" y="5715000"/>
            <a:ext cx="8219880" cy="952560"/>
          </a:xfrm>
          <a:prstGeom prst="rect">
            <a:avLst/>
          </a:prstGeom>
          <a:ln w="0">
            <a:noFill/>
          </a:ln>
        </p:spPr>
      </p:pic>
      <p:sp>
        <p:nvSpPr>
          <p:cNvPr id="1036" name="矩形 3"/>
          <p:cNvSpPr/>
          <p:nvPr/>
        </p:nvSpPr>
        <p:spPr>
          <a:xfrm>
            <a:off x="4643280" y="1785960"/>
            <a:ext cx="1643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4"/>
          <p:cNvSpPr/>
          <p:nvPr/>
        </p:nvSpPr>
        <p:spPr>
          <a:xfrm>
            <a:off x="2857680" y="2786040"/>
            <a:ext cx="1428480" cy="414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5"/>
          <p:cNvSpPr/>
          <p:nvPr/>
        </p:nvSpPr>
        <p:spPr>
          <a:xfrm>
            <a:off x="1285920" y="4343400"/>
            <a:ext cx="114300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6"/>
          <p:cNvSpPr/>
          <p:nvPr/>
        </p:nvSpPr>
        <p:spPr>
          <a:xfrm>
            <a:off x="1335240" y="4832280"/>
            <a:ext cx="114300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7"/>
          <p:cNvSpPr/>
          <p:nvPr/>
        </p:nvSpPr>
        <p:spPr>
          <a:xfrm>
            <a:off x="2214720" y="5740560"/>
            <a:ext cx="1928520" cy="3283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1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8286480" cy="5543640"/>
          </a:xfrm>
          <a:prstGeom prst="rect">
            <a:avLst/>
          </a:prstGeom>
          <a:ln w="0">
            <a:noFill/>
          </a:ln>
        </p:spPr>
      </p:pic>
      <p:sp>
        <p:nvSpPr>
          <p:cNvPr id="1042" name="矩形 2"/>
          <p:cNvSpPr/>
          <p:nvPr/>
        </p:nvSpPr>
        <p:spPr>
          <a:xfrm>
            <a:off x="3714840" y="1428840"/>
            <a:ext cx="1143000" cy="293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3"/>
          <p:cNvSpPr/>
          <p:nvPr/>
        </p:nvSpPr>
        <p:spPr>
          <a:xfrm>
            <a:off x="5072040" y="2428920"/>
            <a:ext cx="1428840" cy="314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4"/>
          <p:cNvSpPr/>
          <p:nvPr/>
        </p:nvSpPr>
        <p:spPr>
          <a:xfrm>
            <a:off x="1235160" y="3978360"/>
            <a:ext cx="1143000" cy="293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5"/>
          <p:cNvSpPr/>
          <p:nvPr/>
        </p:nvSpPr>
        <p:spPr>
          <a:xfrm>
            <a:off x="6429240" y="4500720"/>
            <a:ext cx="2000520" cy="293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6"/>
          <p:cNvSpPr/>
          <p:nvPr/>
        </p:nvSpPr>
        <p:spPr>
          <a:xfrm>
            <a:off x="4572000" y="5500800"/>
            <a:ext cx="1357200" cy="328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1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23896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414360" y="1147680"/>
            <a:ext cx="8315280" cy="4562640"/>
          </a:xfrm>
          <a:prstGeom prst="rect">
            <a:avLst/>
          </a:prstGeom>
          <a:ln w="0">
            <a:noFill/>
          </a:ln>
        </p:spPr>
      </p:pic>
      <p:sp>
        <p:nvSpPr>
          <p:cNvPr id="1049" name="矩形 2"/>
          <p:cNvSpPr/>
          <p:nvPr/>
        </p:nvSpPr>
        <p:spPr>
          <a:xfrm>
            <a:off x="1214280" y="3143160"/>
            <a:ext cx="1143000" cy="293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3"/>
          <p:cNvSpPr/>
          <p:nvPr/>
        </p:nvSpPr>
        <p:spPr>
          <a:xfrm>
            <a:off x="1214280" y="4214880"/>
            <a:ext cx="214344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4"/>
          <p:cNvSpPr/>
          <p:nvPr/>
        </p:nvSpPr>
        <p:spPr>
          <a:xfrm>
            <a:off x="1143000" y="5214960"/>
            <a:ext cx="3571920" cy="293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30:4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